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BF64-8059-41B8-8F0B-A5B006F8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47BB-3480-4B18-AB80-FBD66A2E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2384-351A-4D73-82BE-06BDA667D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8CF2-1C15-4368-9B63-2C4D5F8D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6566-88DC-4672-97A6-F59324D3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AC9C-FDCF-41E0-9719-851757B3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6800-47DC-4BE8-BCCA-D2C1385E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F9FF-D8EC-446E-B193-BB34E155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7D46-30BC-4B04-8D1C-E4AC6C65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7EDB-87AB-42E5-B68F-684A1F42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30F1-5582-4B1F-AAE0-87AC5C00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3B1D-B75B-4D85-8D3B-5E735584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AE9B-7FDC-4D3E-987A-CE85C42DE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2007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ley 23/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pa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effective and creative.  Good work.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ese were not as detailed as I would have liked.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ttle dry considering how great your actual campaign was.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vity / Im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Good!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more preparation…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17:11:55Z</dcterms:created>
  <dc:creator>nbdoe</dc:creator>
  <dc:description/>
  <dc:language>en-US</dc:language>
  <cp:lastModifiedBy>nbdoe</cp:lastModifiedBy>
  <dcterms:modified xsi:type="dcterms:W3CDTF">2007-05-09T17:14:43Z</dcterms:modified>
  <cp:revision>3</cp:revision>
  <dc:subject/>
  <dc:title>Election 2007 </dc:title>
</cp:coreProperties>
</file>